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B7A7-C951-400C-8CB9-3CE82B47C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to Back to School Night.  My name is Mrs. Ladeby am your child’s 8th grade teach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help at home by making sure your child is reading a min. of 80 minutes a wee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currently reading The Fifth of March which deals with events that lead up to the Revolutionary War. This is a good example of how students are making connection from their English class to their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units are developed around a writing fo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using rubrics so students understand the requirements and expectations for assignmentsa and proje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282-213F-421A-9E54-2C1EE4E6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5F4-DF18-4646-A121-9E655750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DE9-A256-4473-B16A-4D04EEDC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3B3-DCCE-4408-A7B4-78E6ACF4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5B9A-1D79-42CF-92A4-ECF1E523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E1B7-5214-44AC-B714-FFED0628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B093-6BA7-4FE2-91DA-7FD2E12F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CAE1-BAF1-45E8-A50A-AF8DEAC5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2CA6-AA57-4026-A5CD-A5EAEBF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399D-B40D-46AA-9606-DE96603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9051-99CF-47C0-91C6-E84F1DC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CA5-AA3B-4943-ABD8-EAF0ABB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20C-4D47-4F30-B5AD-9700520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2BED-3024-4A9D-95A7-55BE13F6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A90F-06E4-4B59-9B8B-916F926C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5D29-1C68-44A8-BE6F-96D7CCF9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FCBC-9E16-46C3-A577-70A7074F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0A1-F1E8-4F8E-8048-BD421BE6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162-AF66-4860-A9C6-6220FA3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17C-E107-4E47-BF5E-82336A1C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928-E839-45C5-921B-E3B7D8E4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BBD-C19C-4D06-9289-619E963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0A9-4296-47BE-BC5A-DB506A5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407-D60F-446A-9E0A-B1BCAA4D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681E-71C8-49EC-AD25-98F040E59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16FC-AB6F-4D74-B16E-63EDA3572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samaniego@sandi.net" TargetMode="External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57800"/>
            <a:ext cx="91440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. Marco Samani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maniego@sandi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38040"/>
            <a:ext cx="4724280" cy="804960"/>
          </a:xfrm>
          <a:prstGeom prst="rect">
            <a:avLst/>
          </a:prstGeom>
          <a:solidFill>
            <a:srgbClr val="cc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61960"/>
            <a:ext cx="914400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8th G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3040" y="245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1828800"/>
            <a:ext cx="5562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arker Felt"/>
              </a:rPr>
              <a:t>Englis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arker Felt"/>
              <a:ea typeface="Marker Felt"/>
            </a:endParaRPr>
          </a:p>
        </p:txBody>
      </p:sp>
      <p:sp>
        <p:nvSpPr>
          <p:cNvPr id="93" name=""/>
          <p:cNvSpPr/>
          <p:nvPr/>
        </p:nvSpPr>
        <p:spPr>
          <a:xfrm>
            <a:off x="7888320" y="4525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1a0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dnesday / Mo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ew word study list to lear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Reading / Writing assign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ue and assigned every Wednes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lete Class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562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imiddleenglish8.wikispaces.com &gt; student &gt;classes/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 Progres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e check Parent Connect to make sure your child is on tra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23440" y="57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te Work Poli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ce an assignment has been entered into Parent Connect,  students have one week to turn it in before it becomes a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day- No higher than a “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days -no higher than a “C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t is the student’s responsibility to check his/her student connect week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uto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e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oom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:40 - 3:45 p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day during lu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appoin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7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ten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ponsible for all missed work/te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ddy conta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iddle Teacher P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562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e contact me if you have any questions/conce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msamaniego@sandi.n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(858) 278-5948 X4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725400" cy="838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880" y="2819520"/>
            <a:ext cx="838440" cy="74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ank you for coming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2895840" cy="260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rriculum D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3337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6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sponse to Literatu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Narrative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pt.6 – Oct. 2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6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rsuasiv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/ Expository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ct. 24 – Dec. 9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) Narrativ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oject Based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c. 12 – Jan. 27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5 weeks)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/ Persuasive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Jan. 30 –March. 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Documents/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Expositor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r. 6 – Mar. 3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etry /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CS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sting]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r. 10 – May. 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5 weeks)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ne Frannk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y 8 – Jun. 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231920" cy="120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 Analysis and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d Orig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reek and Latin roots to make meaning of difficult vocabul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gurative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teral and Figurative Mea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ry Response &amp;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ically or culturally significant works of lit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alyzing recurring th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dentifying literary devices (irony and symbolis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s of poet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rrative poetry, odes, sonne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iting Focu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ponse to Lit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earch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arr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ocuments Relating to Care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ersua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23440" y="57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egory /Poi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asswork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-60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ssays/ Projects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ric S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ests/ Quizzes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ing Gr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es are entered as soon as I can get to the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ce (Not Graded Yet) b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s (Not Submit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tudents that submit “late work” must be patient for entering of points.  Be persistent, not demandin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izz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s may be retaken only once (if student scored below 7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res are averag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o higher than a “C”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the Student’s responsibility to schedule a mak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nn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udents are expected to write down class work/homework each day in their plann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pot checked by student / co-teacher / teac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14:55:13Z</dcterms:created>
  <dc:creator>Rick Selby</dc:creator>
  <dc:description/>
  <dc:language>en-US</dc:language>
  <cp:lastModifiedBy>San Diego City Schools</cp:lastModifiedBy>
  <cp:lastPrinted>2003-09-24T17:54:21Z</cp:lastPrinted>
  <dcterms:modified xsi:type="dcterms:W3CDTF">2011-10-04T23:35:40Z</dcterms:modified>
  <cp:revision>62</cp:revision>
  <dc:subject/>
  <dc:title>No Slide Title</dc:title>
</cp:coreProperties>
</file>